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8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9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72E4-C90D-428D-930A-6FC8DD322E5C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A0BA-4FE3-41FA-98AD-EC98FA49AB87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99CC3116-BAA4-407B-998A-58D349C624E8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756480" y="6602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" name="Text Box 19"/>
          <p:cNvSpPr/>
          <p:nvPr/>
        </p:nvSpPr>
        <p:spPr>
          <a:xfrm>
            <a:off x="7893000" y="660240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ite </a:t>
            </a:r>
            <a:fld id="{B7824421-57D6-435C-9905-BA86194867F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" name="Picture 23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65040" y="6600600"/>
            <a:ext cx="2895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Times New Roman"/>
              </a:rPr>
              <a:t>As at: 21/09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Grafik 16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53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56BC7635-3451-4927-8925-0E201BE45551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4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rafik 8" descr=""/>
          <p:cNvPicPr/>
          <p:nvPr/>
        </p:nvPicPr>
        <p:blipFill>
          <a:blip r:embed="rId2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CACEEC3C-231D-4ADD-8A0C-CCA178032A8E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ftr" idx="5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9" name="Grafik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100" name="Grafik 7" descr=""/>
          <p:cNvPicPr/>
          <p:nvPr/>
        </p:nvPicPr>
        <p:blipFill>
          <a:blip r:embed="rId4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6A9F-DF76-4322-B6F1-D6DAF9FADF1A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4F487C14-2156-41FD-AAA1-106C29BAAB6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1" name="Picture 20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6" name="Picture 20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147" name="Grafik 27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Grafik 27" descr="gizlogo-standard-rgb.gif"/>
          <p:cNvPicPr/>
          <p:nvPr/>
        </p:nvPicPr>
        <p:blipFill>
          <a:blip r:embed="rId2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Planned activity by GIZ co-financed by EU and 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 is to re-establish (after the flood disaster) and improve competitiveness of selected business locations and SMEs.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Initial phase of 12 month: 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Recovery support (provision of 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grants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 to selected SMEs of the wood, metal and agribusiness sector to compensate damages &amp; losses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 Areas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ngthening of municipal management capacities (LED schools, implement modern public management methods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ing Public Private Dialogue (implement dialogue platforms, boost marked oriented and demand-driven development of local economies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Chain development (promote value chains and the use of innovative technology)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million € /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me: ~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 – 2017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additional Municipalities: tbd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4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Ongoing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rogramme for Local Self-Government and Economic Development in BiH (ProLocal)</a:t>
            </a:r>
            <a:br>
              <a:rPr sz="2400"/>
            </a:b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bjective: The competitiveness of selected business locations and their SMEs is improved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 Areas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ngthen management capacities of 10 municipalities to support economic development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peration between the public and the private sectors to strengthen competitiveness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 inclusive business models along value chains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dget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llio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€ /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me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January 2013 – December 2015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Municipalitie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ozarska Dubica, Srbac,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Gradiška, Laktaši, Teslić, Tešanj, Žepče, Jablanica, Konjic, Prozor-Rama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7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32:57Z</dcterms:created>
  <dc:creator>Michael Gajo</dc:creator>
  <dc:description/>
  <cp:keywords>GIZ-Leerfolie</cp:keywords>
  <dc:language>en-US</dc:language>
  <cp:lastModifiedBy>operater</cp:lastModifiedBy>
  <cp:lastPrinted>2005-12-21T12:33:01Z</cp:lastPrinted>
  <dcterms:modified xsi:type="dcterms:W3CDTF">2014-10-09T14:04:20Z</dcterms:modified>
  <cp:revision>768</cp:revision>
  <dc:subject/>
  <dc:title>Folie 1</dc:title>
</cp:coreProperties>
</file>